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917B-13FE-4C17-AE5C-67F45A892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80" y="450144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52F8-9503-4640-A3A3-9C49249F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256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AD87-397A-4320-A851-429F4AF19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15080" y="259092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7880" y="259092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80" y="45014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15080" y="45014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7880" y="45014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3ADE-EE72-4D71-B315-9B1D88E5B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7123-0E6D-469E-A1D4-38C3E77D1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2202-B846-477C-8B98-4C99998F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F013-CEA5-45EA-854D-906BFBE9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D87E-0280-44B2-B4AF-597694CE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A6F7-417C-4F9B-8C40-57D04336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763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0A40-AD61-4740-A592-38791234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28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216B-43AD-474C-B253-E281FD2C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1422-2EC6-483B-833C-36E3F971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256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1364-D3DB-4023-8390-84A146CE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280" y="450144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1169-3DFE-4C97-8D3A-3530821F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280" y="450144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06D1-C129-4D7F-8E83-E8A05FE6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8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256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F640-AD23-453A-84C2-7283037AD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15080" y="259092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7880" y="259092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280" y="45014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15080" y="45014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7880" y="45014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224B-6316-47CA-B96B-616B3DC81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EE45-2D7C-4701-A98F-4417CA2A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C44A-B25B-4B0F-9BF0-5940521A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FFD0-3106-47D6-B892-2DF0A43F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763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F343-80AF-4289-B3BC-54F4C877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8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B642-45E5-49A7-A481-5981A8F1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256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F1F2-E556-4853-9679-56CE5E23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80" y="450144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F454-0ABB-4969-B775-ABE3A59D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c24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565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565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565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565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5654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5654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5654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195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654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654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1936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654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654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654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36E7-002F-40E9-B328-9A4839248304}" type="slidenum">
              <a:rPr b="0" lang="en-US" sz="1000" spc="-1" strike="noStrike">
                <a:solidFill>
                  <a:srgbClr val="5654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4266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c24"/>
                </a:solidFill>
                <a:latin typeface="Arial Black"/>
              </a:rPr>
              <a:t>Click to edit the title text format</a:t>
            </a:r>
            <a:endParaRPr b="0" lang="en-US" sz="34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654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654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17220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654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654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654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1C80-0C8E-4D0B-9E40-78F40AA32620}" type="slidenum">
              <a:rPr b="0" lang="en-US" sz="1000" spc="-1" strike="noStrike">
                <a:solidFill>
                  <a:srgbClr val="5654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4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654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4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654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654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4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654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654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54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654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654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54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654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5654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54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654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5654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54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654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4266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14c24"/>
                </a:solidFill>
                <a:latin typeface="Arial Black"/>
              </a:rPr>
              <a:t>My Centre</a:t>
            </a:r>
            <a:endParaRPr b="0" lang="en-US" sz="5400" spc="-1" strike="noStrike">
              <a:solidFill>
                <a:srgbClr val="414c24"/>
              </a:solidFill>
              <a:latin typeface="Arial Black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979640" y="2205000"/>
            <a:ext cx="5327640" cy="42354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050840" y="1600200"/>
            <a:ext cx="6964560" cy="46483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26920" y="1844640"/>
            <a:ext cx="6897960" cy="45910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56000" y="1628640"/>
            <a:ext cx="3558960" cy="47577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22:41:41Z</dcterms:created>
  <dc:creator>andrea.robertson</dc:creator>
  <dc:description/>
  <dc:language>en-US</dc:language>
  <cp:lastModifiedBy>andrea.robertson</cp:lastModifiedBy>
  <dcterms:modified xsi:type="dcterms:W3CDTF">2006-03-06T22:49:41Z</dcterms:modified>
  <cp:revision>2</cp:revision>
  <dc:subject/>
  <dc:title>My Centre</dc:title>
</cp:coreProperties>
</file>